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4CE-F336-4D17-90C9-7A6913C7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05F3-C69D-4AB5-9AE3-61196A3D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26C-7419-432B-A179-4F179737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BB79-1A9C-4486-9534-97BE5DB1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3CF-F18A-4A82-AC76-D88D24E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E67-D7CA-417C-AAB6-F7264F61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539-1244-41B8-BEED-DFCB548A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90F-5C72-47BA-BDF8-5E345D33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638-B32B-4464-8103-66349732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0FF-88B0-4D12-BC98-F02FA18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A32-6EFB-4C29-AD1C-5D87649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F39-9925-459C-B9A2-E8822438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A4C-BE12-4CA4-96C2-37467928B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3362911HLMymE_ph" descr=""/>
          <p:cNvPicPr/>
          <p:nvPr/>
        </p:nvPicPr>
        <p:blipFill>
          <a:blip r:embed="rId1"/>
          <a:stretch/>
        </p:blipFill>
        <p:spPr>
          <a:xfrm>
            <a:off x="3046320" y="-82440"/>
            <a:ext cx="6935760" cy="7702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2971800" cy="10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يا حاملاً صَليبَ الفـداء،  صليبَ الفـداء،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مُـرَّ مـن صّوبِنـا نحنُ الذينَ نحيا الوفاء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ccecff"/>
                </a:solidFill>
                <a:latin typeface="Simplified Arabic"/>
              </a:rPr>
              <a:t>حُـبــُّـــكَ فــي  قَلبِنــــــا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7055312TKFvGq_ph" descr=""/>
          <p:cNvPicPr/>
          <p:nvPr/>
        </p:nvPicPr>
        <p:blipFill>
          <a:blip r:embed="rId1"/>
          <a:stretch/>
        </p:blipFill>
        <p:spPr>
          <a:xfrm>
            <a:off x="31240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2819520" cy="107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أمامَكَ نَنحني، أنزِلْ صليبَك، ضَعْهُ على أَكتافِنا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وارتَحْ عندَنا قليلاً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طريقُ</a:t>
            </a:r>
            <a:r>
              <a:rPr b="1" lang="en-US" sz="4600" spc="-1" strike="noStrike">
                <a:solidFill>
                  <a:srgbClr val="ffffcc"/>
                </a:solidFill>
                <a:latin typeface="Arial"/>
                <a:ea typeface="Simplified Arabic"/>
              </a:rPr>
              <a:t> </a:t>
            </a:r>
            <a:r>
              <a:rPr b="1" lang="ar-SA" sz="46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خلاصِ طويـلٌ على مَدِّ آمالِكَ</a:t>
            </a:r>
            <a:r>
              <a:rPr b="0" lang="ar-SA" sz="46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6:11:46Z</dcterms:created>
  <dc:creator>SUZANNE.MD</dc:creator>
  <dc:description/>
  <dc:language>en-US</dc:language>
  <cp:lastModifiedBy>SUZANNE.MD</cp:lastModifiedBy>
  <dcterms:modified xsi:type="dcterms:W3CDTF">2003-03-10T06:18:13Z</dcterms:modified>
  <cp:revision>1</cp:revision>
  <dc:subject/>
  <dc:title>PowerPoint Presentation</dc:title>
</cp:coreProperties>
</file>